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DED-EA95-4361-84A2-D7431708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384-C938-43F4-8A19-EF56108D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597 #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A62-66A2-4167-A32A-7184E50B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does not depend on intensity of the light (as predicted by Classical the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hotocurrent does depend on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ifferent for differ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independent of intensity (e- have a maximum 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dependent of intens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pendent of frequency (maximum kinetic energy depends on 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31F3-486E-4072-938C-1132EB38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604 #11, 13,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807E-6154-4E80-8AF8-5C935344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5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0.2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6.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1B84-19EE-43EB-B67E-147A031B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80CE-EEDB-4AEC-8A47-E2DA1FF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A8CD-9440-4ECE-9F6F-2510E898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BA25-ACEA-4789-8800-347CA44D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18F-F977-488B-8748-3AEED391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4611-9DBB-4F42-9D2D-680B3500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106-FDB0-4255-B58E-745F162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C08-FD47-4676-8B55-F2CF6E2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D9B-7EA9-4373-AA6F-F43E0C0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790-F5DD-4EF3-9415-561D443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CC9E-6B63-4181-AED0-64801C7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C3AD-B76A-4D7A-B359-CD38614E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472-FA92-493E-8593-68CAD39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CF0-1A0B-457F-9520-92D2C66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0D6-56A2-452B-89C8-3B4317F6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1472-9662-4DB1-9F89-3E6DC9E6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3535-8E46-406D-BD2C-92F282C6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77AD-3666-4859-843D-CA78BAA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C034-23D5-40CC-BD12-00C3E72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B9EE-717B-44CC-BA98-79A09BB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94E3-31FF-4E95-9F55-806228F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9031-E573-4EAD-9DEE-A3CBE6E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DBEA-5E07-4E05-82BD-13A6D34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AD4F-9A10-4369-A183-AEFCDC5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63D-2859-439B-9AD1-E4D7B9C98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EA8-FBEB-48CD-B4DA-B3C530CD3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Photoelectric Eff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09320" y="42667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xtbook:  12.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:  pg. 608 #2, 8, 12 - 1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(a) Calculate the momentum of a photon of wavelength 2.5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alculate the speed of an electron having the same momentum as the photon in (a).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.1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Calculate the kinetic energy of the electron. How does it compare with the energy of the phot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 (a) Calculate the energy of a single microwave quantum of wavelength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0 c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Calculate how many quanta of 10.0-cm microwave energy would be required to raise the temperature of 250.0 mL of water from 20°C to the boiling point, given that the specific heat capacity of wat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kg?°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16160" y="457200"/>
            <a:ext cx="4543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ck’s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0, German physicist Max Planck suggested that light travels in packe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ckets define the amount of energy transferred by a given frequency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ostulate of quantum mechanical 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is the smallest amount or quantum of energy (in joules) that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ransferred for a given wavelength of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219320" y="4952880"/>
          <a:ext cx="91440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952880"/>
                    <a:ext cx="9144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218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if frequency of light is greater than threshold frequency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unction, W, is the minimum amount of energy needed for the electrons to be emitted from meta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mage1"/>
          <p:cNvPicPr/>
          <p:nvPr/>
        </p:nvPicPr>
        <p:blipFill>
          <a:blip r:embed="rId1"/>
          <a:stretch/>
        </p:blipFill>
        <p:spPr>
          <a:xfrm>
            <a:off x="457200" y="213372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4343400" y="2084400"/>
            <a:ext cx="3733920" cy="27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47720" cy="1666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533520" y="12193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tein received the Nobel Prize in physics in 19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made of particles called ph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ho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eV = 1.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= 1V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requires energy to escape surface of metal, left over energy provide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 -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Work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 6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Calculate the minimum frequency of the photon required to eject electrons from a metal whose work function is 2.4 eV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Barium has a work function of 2.48 eV. What is the maximum kinetic energy of the ejected electrons if the metal is illuminated at 450 nm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Light of frequency 8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z illuminates a surface whose work function is 1.2 eV.   What is the maximum speed with which an electron reaches the pl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43600" y="541008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-coupled device (CC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emiconductor chip with an array of light-sensitive cells, used for converting light images into electrica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6404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0" y="5446800"/>
            <a:ext cx="5867280" cy="139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04920" y="1600200"/>
            <a:ext cx="5638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ar 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-res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of a Photon: The Compt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3: American physicist A.H. Compton directed a beam of high energy X-ray photons at a thin metal fo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ton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cattering of lower – frequency photons by high-energy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200400" cy="264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200400" cy="23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6"/>
          <p:cNvGraphicFramePr/>
          <p:nvPr/>
        </p:nvGraphicFramePr>
        <p:xfrm>
          <a:off x="4572000" y="5410080"/>
          <a:ext cx="144792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10080"/>
                    <a:ext cx="1447920" cy="135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(pg 608 - 6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ow that the units of       are units of momentum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se Planck’s quantum theory to suggest a reason why no photoelectrons are released from a surface until light of sufficiently high frequency is incident on the surfa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alculate the energy of an ultraviolet photon, of wavelength 122 nm, in both joules and electron v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876920" y="1828800"/>
          <a:ext cx="3427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828800"/>
                    <a:ext cx="342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What wavelength of light is required for ejecting photoelectrons from a tungsten surfac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.52 eV) if the maximum kinetic energy of the electrons is 1.68 eV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When light of wavelength of 482 nm falls onto a certain metallic surface, a retarding potential of 1.2V proves just sufficient to make the current passing through the phototube fall to zero. Calculate the work function of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0:37:04Z</dcterms:created>
  <dc:creator>NHAT LE</dc:creator>
  <dc:description/>
  <dc:language>en-US</dc:language>
  <cp:lastModifiedBy>Katie</cp:lastModifiedBy>
  <dcterms:modified xsi:type="dcterms:W3CDTF">2014-07-21T01:33:57Z</dcterms:modified>
  <cp:revision>40</cp:revision>
  <dc:subject/>
  <dc:title>Slide 1</dc:title>
</cp:coreProperties>
</file>